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5.wmf" ContentType="image/x-wmf"/>
  <Override PartName="/ppt/media/image10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EB9D8-26EC-4799-8147-6294AFC2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A70A7-48D9-4D12-A910-AF2743E1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E5386-0555-4440-BF56-DCC4494D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BBCED-2169-4A4B-8D31-3EE98316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39F8-BCDA-4590-AC30-A9BEC252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B2B1-12F8-49C8-97A0-BCB7869D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82BE-AD82-420B-BFB8-D43EED23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B1D3-2AE7-4FB5-9A35-4E3BCDBD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9677-5D58-447A-85A9-A481BB08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C853-DFA9-46FA-A5B6-AA3ADCB6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8080-8A06-471C-A323-E1C587F3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3B8A1-FDA7-4BEA-B3ED-61D49F73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0552-B9ED-4802-B71A-9B0E3076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87E3-8532-46C3-89E0-4C1B4D79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A082-A7F5-4A2B-995F-911C278B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3167-6FEF-446D-A69A-04C46360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48F9-3402-45F7-A8BD-468F0A39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4BFD0-A8DA-49C9-9665-B081BC6D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ACB82-D360-4C2E-8F18-C9A90D2C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BC970-E9E5-4102-AAB4-AB469872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04F45-2C06-4A5A-B217-67C2B9C6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387F1-D3AF-44EE-AAC1-559642F6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FACFD-F53D-41B1-91C3-A66369DD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C85A6-2057-42EF-A431-30FBFB7F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AB5A-D609-485F-A0E0-AD9ADE5ED2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6ACC-1482-4C1F-8CD6-C74F1EFD48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Imperfec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verb tense to describe events which happen in the past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the following  acronym to help remember when to use the imperfect ten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W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 = physical descriptions or attrib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lla era alta y él era baj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 era bonita y jove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ú eras gordit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4" descr="MCj03977660000[1]"/>
          <p:cNvPicPr/>
          <p:nvPr/>
        </p:nvPicPr>
        <p:blipFill>
          <a:blip r:embed="rId1"/>
          <a:stretch/>
        </p:blipFill>
        <p:spPr>
          <a:xfrm>
            <a:off x="7238880" y="228600"/>
            <a:ext cx="1675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1905120"/>
            <a:ext cx="7848720" cy="42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= wea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acía sol ay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lovía mucho en abri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 nevaba en noviembre much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4" descr="MCj01990210000[1]"/>
          <p:cNvPicPr/>
          <p:nvPr/>
        </p:nvPicPr>
        <p:blipFill>
          <a:blip r:embed="rId1"/>
          <a:stretch/>
        </p:blipFill>
        <p:spPr>
          <a:xfrm>
            <a:off x="457200" y="0"/>
            <a:ext cx="217656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1600200"/>
            <a:ext cx="7848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= age (chronologic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llos tenían siete años el año pasad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 tenía diez años cuando yo compré mi propia biciclet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sotros teníamos un año cuando Nosotros tomamos lecciónes de natació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MMj02838990000[1]"/>
          <p:cNvPicPr/>
          <p:nvPr/>
        </p:nvPicPr>
        <p:blipFill>
          <a:blip r:embed="rId1"/>
          <a:stretch/>
        </p:blipFill>
        <p:spPr>
          <a:xfrm>
            <a:off x="7315200" y="4876920"/>
            <a:ext cx="1327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57200" y="1600200"/>
            <a:ext cx="7848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 = time (numbe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ra a la una anoch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ran las siete de la mañ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ran las dos menos tres de la tar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4" descr="MMj03368530000[1]"/>
          <p:cNvPicPr/>
          <p:nvPr/>
        </p:nvPicPr>
        <p:blipFill>
          <a:blip r:embed="rId1"/>
          <a:stretch/>
        </p:blipFill>
        <p:spPr>
          <a:xfrm>
            <a:off x="6781680" y="533520"/>
            <a:ext cx="7160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600200"/>
            <a:ext cx="7848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 = emo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 estaba content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llos estaban enojado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ú estabas preocupado anoch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" descr="MCj02325990000[1]"/>
          <p:cNvPicPr/>
          <p:nvPr/>
        </p:nvPicPr>
        <p:blipFill>
          <a:blip r:embed="rId1"/>
          <a:stretch/>
        </p:blipFill>
        <p:spPr>
          <a:xfrm>
            <a:off x="7238880" y="228600"/>
            <a:ext cx="1320840" cy="181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MCj02320490000[1]"/>
          <p:cNvPicPr/>
          <p:nvPr/>
        </p:nvPicPr>
        <p:blipFill>
          <a:blip r:embed="rId2"/>
          <a:stretch/>
        </p:blipFill>
        <p:spPr>
          <a:xfrm>
            <a:off x="7238880" y="4724280"/>
            <a:ext cx="1706760" cy="186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MCj02934900000[1]"/>
          <p:cNvPicPr/>
          <p:nvPr/>
        </p:nvPicPr>
        <p:blipFill>
          <a:blip r:embed="rId3"/>
          <a:stretch/>
        </p:blipFill>
        <p:spPr>
          <a:xfrm>
            <a:off x="533520" y="304920"/>
            <a:ext cx="1831680" cy="1128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MCj02991390000[1]"/>
          <p:cNvPicPr/>
          <p:nvPr/>
        </p:nvPicPr>
        <p:blipFill>
          <a:blip r:embed="rId4"/>
          <a:stretch/>
        </p:blipFill>
        <p:spPr>
          <a:xfrm>
            <a:off x="0" y="5369040"/>
            <a:ext cx="1825560" cy="148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MCj02392050000[1]"/>
          <p:cNvPicPr/>
          <p:nvPr/>
        </p:nvPicPr>
        <p:blipFill>
          <a:blip r:embed="rId5"/>
          <a:stretch/>
        </p:blipFill>
        <p:spPr>
          <a:xfrm>
            <a:off x="7238880" y="2362320"/>
            <a:ext cx="1511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 - 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335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= reoccurring actions / repeating actions/ actions interrup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Él asistía a la escuela todos los día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Yo comía al mediodía cada almuerzo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Yo lavaba los platos cuando tú  me llamaste por teléfono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4" descr="MCj01358170000[1]"/>
          <p:cNvPicPr/>
          <p:nvPr/>
        </p:nvPicPr>
        <p:blipFill>
          <a:blip r:embed="rId1"/>
          <a:stretch/>
        </p:blipFill>
        <p:spPr>
          <a:xfrm>
            <a:off x="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MCj01358170000[1]"/>
          <p:cNvPicPr/>
          <p:nvPr/>
        </p:nvPicPr>
        <p:blipFill>
          <a:blip r:embed="rId2"/>
          <a:stretch/>
        </p:blipFill>
        <p:spPr>
          <a:xfrm>
            <a:off x="91440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MCj01358170000[1]"/>
          <p:cNvPicPr/>
          <p:nvPr/>
        </p:nvPicPr>
        <p:blipFill>
          <a:blip r:embed="rId3"/>
          <a:stretch/>
        </p:blipFill>
        <p:spPr>
          <a:xfrm>
            <a:off x="175248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MCj01358170000[1]"/>
          <p:cNvPicPr/>
          <p:nvPr/>
        </p:nvPicPr>
        <p:blipFill>
          <a:blip r:embed="rId4"/>
          <a:stretch/>
        </p:blipFill>
        <p:spPr>
          <a:xfrm>
            <a:off x="259092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MCj01358170000[1]"/>
          <p:cNvPicPr/>
          <p:nvPr/>
        </p:nvPicPr>
        <p:blipFill>
          <a:blip r:embed="rId5"/>
          <a:stretch/>
        </p:blipFill>
        <p:spPr>
          <a:xfrm>
            <a:off x="342900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MCj01358170000[1]"/>
          <p:cNvPicPr/>
          <p:nvPr/>
        </p:nvPicPr>
        <p:blipFill>
          <a:blip r:embed="rId6"/>
          <a:stretch/>
        </p:blipFill>
        <p:spPr>
          <a:xfrm>
            <a:off x="426708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Cj01358170000[1]"/>
          <p:cNvPicPr/>
          <p:nvPr/>
        </p:nvPicPr>
        <p:blipFill>
          <a:blip r:embed="rId7"/>
          <a:stretch/>
        </p:blipFill>
        <p:spPr>
          <a:xfrm>
            <a:off x="5105520" y="5265720"/>
            <a:ext cx="1193760" cy="1592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MCj01358170000[1]"/>
          <p:cNvPicPr/>
          <p:nvPr/>
        </p:nvPicPr>
        <p:blipFill>
          <a:blip r:embed="rId8"/>
          <a:stretch/>
        </p:blipFill>
        <p:spPr>
          <a:xfrm>
            <a:off x="5943600" y="5265720"/>
            <a:ext cx="1371600" cy="15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MCj01358170000[1]"/>
          <p:cNvPicPr/>
          <p:nvPr/>
        </p:nvPicPr>
        <p:blipFill>
          <a:blip r:embed="rId9"/>
          <a:stretch/>
        </p:blipFill>
        <p:spPr>
          <a:xfrm>
            <a:off x="6934320" y="5265720"/>
            <a:ext cx="1371600" cy="1592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MCj01358170000[1]"/>
          <p:cNvPicPr/>
          <p:nvPr/>
        </p:nvPicPr>
        <p:blipFill>
          <a:blip r:embed="rId10"/>
          <a:stretch/>
        </p:blipFill>
        <p:spPr>
          <a:xfrm>
            <a:off x="7924680" y="5265720"/>
            <a:ext cx="14479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erfect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re are words usually associated with the imperfect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066680" y="2513160"/>
            <a:ext cx="3657600" cy="36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os los dí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as las no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os los meses.. añ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emp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ralme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876920" y="2470320"/>
            <a:ext cx="358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n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 vez en cuan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entr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 niño(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 jov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16:42:11Z</dcterms:created>
  <dc:creator>lhagemeier</dc:creator>
  <dc:description/>
  <dc:language>en-US</dc:language>
  <cp:lastModifiedBy>Box Elder School District</cp:lastModifiedBy>
  <dcterms:modified xsi:type="dcterms:W3CDTF">2012-03-12T15:00:35Z</dcterms:modified>
  <cp:revision>7</cp:revision>
  <dc:subject/>
  <dc:title>Preterite v. Imperfect</dc:title>
</cp:coreProperties>
</file>